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C97-1484-40BF-B735-6B15E66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408-D9F0-4F6A-92F6-52CF22C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C90-C674-4FB3-AD6F-10EED9D6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6B5-645D-4120-B085-13108C00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EAB-63CE-45DF-BF25-9A242C0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B2B-CBB1-4E04-AF4A-6D6173AF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08D5-2EAC-4A33-8F1F-B62A20C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5D3C-2D91-496D-8DCF-0822511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838B-B84E-413F-B258-7BAB2E0A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35EB-5529-42D2-973F-02D9B61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2F0B-2EC2-42F3-A5CF-ADDD526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402-A9DE-4DEB-BB15-EC38687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811-4BC5-4CC2-A9FD-7E12647C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B0A-7217-4D05-ADD3-8A9F104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19C-5B0F-4314-B9DA-1CD97412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9527-B23F-43B8-A81F-7FCC799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EB56-0CCD-4810-805E-0F7198A4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6F6-80EB-4FED-BB0B-D8831CD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D62-1FE5-451D-9331-0FEEBC84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DFB-5280-42B8-9032-93E4DCA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737-A5B9-41A8-B7BC-8836001E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D5B-69FB-4EA4-AB59-9D1A6BA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48E-5B4A-4AEC-8B6E-8945CFA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615-AD53-4E7B-BA6A-7BF37A1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293-2D5C-42DB-9ADE-BB5FC2603C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32E-7BC7-4292-B7CB-9D05F36FD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aching.com/KeyPals/" TargetMode="External"/><Relationship Id="rId2" Type="http://schemas.openxmlformats.org/officeDocument/2006/relationships/hyperlink" Target="http://www.epals.com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5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round the World with Caldecot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04960" y="24382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in conjunction with Indiana D.O.E. through the Information Literacy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decott Stor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MVC-003F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de level and Content Standards Address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s 1 –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 Arts and Ge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.A. Standard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Studies  Standard 3  Geogra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Literacy Standard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 Objectiv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students to Caldecott Medal books and learn why these books have received the ho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iarize students with the location of the Caldecott Medal books in the media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recreational reading to the students during formative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en to and enjoy a story time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location of various countries on world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with key-pals from other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decott Medal books  are highlighted in this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is linked to Indiana Academic Standar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uzzle5"/>
          <p:cNvSpPr/>
          <p:nvPr/>
        </p:nvSpPr>
        <p:spPr>
          <a:xfrm>
            <a:off x="6019920" y="4327560"/>
            <a:ext cx="1600200" cy="12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-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3"/>
          <p:cNvSpPr/>
          <p:nvPr/>
        </p:nvSpPr>
        <p:spPr>
          <a:xfrm>
            <a:off x="6294600" y="5081760"/>
            <a:ext cx="102060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decot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ll map with countries mark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MVC-152F" descr=""/>
          <p:cNvPicPr/>
          <p:nvPr/>
        </p:nvPicPr>
        <p:blipFill>
          <a:blip r:embed="rId1"/>
          <a:stretch/>
        </p:blipFill>
        <p:spPr>
          <a:xfrm>
            <a:off x="533520" y="1774800"/>
            <a:ext cx="7848360" cy="43974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ldecott Post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MVC-159F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to Get More 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decott wall po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a-bound 1-800-637-65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la.org/Content/NavigationMenu/ALSC/Awards_and_Scholarships1/Literary_and_Related_Awards/Caldecott_Medal/Caldecott_Medal_Winners,_1938-Present/Caldecott_Medal_Winners,_1938-Present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yahooligans.com/Around_the_World/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unsite.berkeley.edu/KidsClick!/midcou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P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websites for teachers and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Pals Cl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teaching.com/KeyPal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als Classroom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www.epals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P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MVC-004F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7:56:39Z</dcterms:created>
  <dc:creator>MSD of Shakamak</dc:creator>
  <dc:description/>
  <dc:language>en-US</dc:language>
  <cp:lastModifiedBy>MSD of Shakamak</cp:lastModifiedBy>
  <dcterms:modified xsi:type="dcterms:W3CDTF">2003-05-16T18:45:17Z</dcterms:modified>
  <cp:revision>18</cp:revision>
  <dc:subject/>
  <dc:title>Training</dc:title>
</cp:coreProperties>
</file>